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EC585E-46E3-4BE6-829F-056A99989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7FBEDD-3580-49F9-ADCC-829AC318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DEB1D3-DB26-4E2A-B455-03043131A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9A7804C-15BF-44E5-88DC-1AE71DFC2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0BE6C-1476-4D5C-94A9-2F67F0D7A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AF14-25E9-4372-88B9-BC69D6611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D865A-6692-4DB0-9F97-D8A8D2FD7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7CAB3-5098-44D9-9027-20910C069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4BB96-6568-495A-AF60-9C8BF868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C50C1-44CA-484D-B8BC-64405E4CA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014C9-2515-4881-BE2B-7C41DDFD8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FB1E9E-1E27-4871-B1DF-274F6AAB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8C15A-5F84-4C81-8C0B-8C218E38E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1BB7E-1FC0-449C-948F-FA1056CA2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8A2CD-581C-4CD2-B91A-B7BC46473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74730-DE6A-44F0-A645-2E85662FB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7D774-00F4-4B0E-B1ED-EE5CED236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385537-D277-4880-AA19-457FE5A0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ED6192-1D48-41E8-9FFA-1309928C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6F3261-D4D4-4540-8128-FF382D76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A5D40A-78E2-4544-B2B9-57C2794E1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E43A63-7E0B-4785-9785-F9DD37E7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ED6520-BD02-4C91-80C5-C641FCD65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021E9E-7EA7-4A4F-A6C6-46DA74FA2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2C15-FF4D-49E9-9497-EB08DD4603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37B6-05B4-428C-8F45-02BEE856FE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200" spc="-1" strike="noStrike">
                <a:solidFill>
                  <a:srgbClr val="e5e5ff"/>
                </a:solidFill>
                <a:latin typeface="Garamond"/>
              </a:rPr>
              <a:t>NOVEDADES </a:t>
            </a:r>
            <a:br>
              <a:rPr sz="7200"/>
            </a:br>
            <a:endParaRPr b="1" lang="en-US" sz="72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25-04-201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73/2011</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23" name=""/>
          <p:cNvGraphicFramePr/>
          <p:nvPr/>
        </p:nvGraphicFramePr>
        <p:xfrm>
          <a:off x="4648320" y="1600200"/>
          <a:ext cx="4038480" cy="2865600"/>
        </p:xfrm>
        <a:graphic>
          <a:graphicData uri="http://schemas.openxmlformats.org/drawingml/2006/table">
            <a:tbl>
              <a:tblPr/>
              <a:tblGrid>
                <a:gridCol w="2342880"/>
                <a:gridCol w="565200"/>
                <a:gridCol w="565200"/>
                <a:gridCol w="56520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582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5784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graphicFrame>
        <p:nvGraphicFramePr>
          <p:cNvPr id="124" name=""/>
          <p:cNvGraphicFramePr/>
          <p:nvPr/>
        </p:nvGraphicFramePr>
        <p:xfrm>
          <a:off x="971640" y="1557360"/>
          <a:ext cx="7715160" cy="4317840"/>
        </p:xfrm>
        <a:graphic>
          <a:graphicData uri="http://schemas.openxmlformats.org/drawingml/2006/table">
            <a:tbl>
              <a:tblPr/>
              <a:tblGrid>
                <a:gridCol w="4470480"/>
                <a:gridCol w="1082520"/>
                <a:gridCol w="1079640"/>
                <a:gridCol w="1082520"/>
              </a:tblGrid>
              <a:tr h="2341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17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graphicFrame>
        <p:nvGraphicFramePr>
          <p:cNvPr id="125" name=""/>
          <p:cNvGraphicFramePr/>
          <p:nvPr/>
        </p:nvGraphicFramePr>
        <p:xfrm>
          <a:off x="684360" y="1628640"/>
          <a:ext cx="7920000" cy="4248360"/>
        </p:xfrm>
        <a:graphic>
          <a:graphicData uri="http://schemas.openxmlformats.org/drawingml/2006/table">
            <a:tbl>
              <a:tblPr/>
              <a:tblGrid>
                <a:gridCol w="4630680"/>
                <a:gridCol w="1095120"/>
                <a:gridCol w="1097280"/>
                <a:gridCol w="1096920"/>
              </a:tblGrid>
              <a:tr h="85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CONCEPTO</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IMPORTE ACUMULADO OCT $</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IMPORTE ACUMULADO NOV $</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IMPORTE ACUMULADO DIC $</a:t>
                      </a:r>
                      <a:endParaRPr b="0" lang="en-US" sz="1200" spc="-1" strike="noStrike">
                        <a:solidFill>
                          <a:srgbClr val="ffffff"/>
                        </a:solidFill>
                        <a:latin typeface="Arial"/>
                      </a:endParaRPr>
                    </a:p>
                  </a:txBody>
                  <a:tcPr anchor="t" marL="90000" marR="90000">
                    <a:lnL>
                      <a:noFill/>
                    </a:lnL>
                    <a:lnR>
                      <a:noFill/>
                    </a:lnR>
                    <a:lnT>
                      <a:noFill/>
                    </a:lnT>
                    <a:lnB>
                      <a:noFill/>
                    </a:lnB>
                    <a:noFill/>
                  </a:tcPr>
                </a:tc>
              </a:tr>
              <a:tr h="381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 Ganancias no imponibles [(Art. 23, inc. 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8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1.8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960.-</a:t>
                      </a:r>
                      <a:endParaRPr b="0" lang="en-US" sz="1200" spc="-1" strike="noStrike">
                        <a:solidFill>
                          <a:srgbClr val="ffffff"/>
                        </a:solidFill>
                        <a:latin typeface="Arial"/>
                      </a:endParaRPr>
                    </a:p>
                  </a:txBody>
                  <a:tcPr anchor="b" marL="90000" marR="90000">
                    <a:lnL>
                      <a:noFill/>
                    </a:lnL>
                    <a:lnR>
                      <a:noFill/>
                    </a:lnR>
                    <a:lnT>
                      <a:noFill/>
                    </a:lnT>
                    <a:lnB>
                      <a:noFill/>
                    </a:lnB>
                    <a:noFill/>
                  </a:tcPr>
                </a:tc>
              </a:tr>
              <a:tr h="620280">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B) Deducción por carga de familia [(Art. 23, inc. b)]</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19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 Cónyug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3.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4.400.-</a:t>
                      </a:r>
                      <a:endParaRPr b="0" lang="en-US" sz="1200" spc="-1" strike="noStrike">
                        <a:solidFill>
                          <a:srgbClr val="ffffff"/>
                        </a:solidFill>
                        <a:latin typeface="Arial"/>
                      </a:endParaRPr>
                    </a:p>
                  </a:txBody>
                  <a:tcPr anchor="b" marL="90000" marR="90000">
                    <a:lnL>
                      <a:noFill/>
                    </a:lnL>
                    <a:lnR>
                      <a:noFill/>
                    </a:lnR>
                    <a:lnT>
                      <a:noFill/>
                    </a:lnT>
                    <a:lnB>
                      <a:noFill/>
                    </a:lnB>
                    <a:noFill/>
                  </a:tcPr>
                </a:tc>
              </a:tr>
              <a:tr h="3823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 Hij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6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200.-</a:t>
                      </a:r>
                      <a:endParaRPr b="0" lang="en-US" sz="1200" spc="-1" strike="noStrike">
                        <a:solidFill>
                          <a:srgbClr val="ffffff"/>
                        </a:solidFill>
                        <a:latin typeface="Arial"/>
                      </a:endParaRPr>
                    </a:p>
                  </a:txBody>
                  <a:tcPr anchor="b" marL="90000" marR="90000">
                    <a:lnL>
                      <a:noFill/>
                    </a:lnL>
                    <a:lnR>
                      <a:noFill/>
                    </a:lnR>
                    <a:lnT>
                      <a:noFill/>
                    </a:lnT>
                    <a:lnB>
                      <a:noFill/>
                    </a:lnB>
                    <a:noFill/>
                  </a:tcPr>
                </a:tc>
              </a:tr>
              <a:tr h="3808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 Otras Carg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5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9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400.-</a:t>
                      </a:r>
                      <a:endParaRPr b="0" lang="en-US" sz="1200" spc="-1" strike="noStrike">
                        <a:solidFill>
                          <a:srgbClr val="ffffff"/>
                        </a:solidFill>
                        <a:latin typeface="Arial"/>
                      </a:endParaRPr>
                    </a:p>
                  </a:txBody>
                  <a:tcPr anchor="b" marL="90000" marR="90000">
                    <a:lnL>
                      <a:noFill/>
                    </a:lnL>
                    <a:lnR>
                      <a:noFill/>
                    </a:lnR>
                    <a:lnT>
                      <a:noFill/>
                    </a:lnT>
                    <a:lnB>
                      <a:noFill/>
                    </a:lnB>
                    <a:noFill/>
                  </a:tcPr>
                </a:tc>
              </a:tr>
              <a:tr h="62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 </a:t>
                      </a:r>
                      <a:r>
                        <a:rPr b="1" lang="es-ES_tradnl" sz="1200" spc="-1" strike="noStrike">
                          <a:solidFill>
                            <a:srgbClr val="ffffff"/>
                          </a:solidFill>
                          <a:latin typeface="Times New Roman"/>
                          <a:ea typeface="Times New Roman"/>
                        </a:rPr>
                        <a:t>C) Deducción especial</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Art. 23, inc. c);Art. 79, inc. 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8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1.8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960.-</a:t>
                      </a:r>
                      <a:endParaRPr b="0" lang="en-US" sz="1200" spc="-1" strike="noStrike">
                        <a:solidFill>
                          <a:srgbClr val="ffffff"/>
                        </a:solidFill>
                        <a:latin typeface="Arial"/>
                      </a:endParaRPr>
                    </a:p>
                  </a:txBody>
                  <a:tcPr anchor="b" marL="90000" marR="90000">
                    <a:lnL>
                      <a:noFill/>
                    </a:lnL>
                    <a:lnR>
                      <a:noFill/>
                    </a:lnR>
                    <a:lnT>
                      <a:noFill/>
                    </a:lnT>
                    <a:lnB>
                      <a:noFill/>
                    </a:lnB>
                    <a:noFill/>
                  </a:tcPr>
                </a:tc>
              </a:tr>
              <a:tr h="6202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 </a:t>
                      </a:r>
                      <a:r>
                        <a:rPr b="1" lang="es-ES_tradnl" sz="1200" spc="-1" strike="noStrike">
                          <a:solidFill>
                            <a:srgbClr val="ffffff"/>
                          </a:solidFill>
                          <a:latin typeface="Times New Roman"/>
                          <a:ea typeface="Times New Roman"/>
                        </a:rPr>
                        <a:t>D) Deducción especial</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Art. 23, inc. c);Art. 79, incisos a), b) y 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1.8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02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208.-</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DTO. 446/11</a:t>
            </a:r>
            <a:endParaRPr b="1" lang="en-US" sz="6000" spc="-1" strike="noStrike">
              <a:solidFill>
                <a:srgbClr val="e5e5ff"/>
              </a:solidFill>
              <a:latin typeface="Garamond"/>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TO. 446/11</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ASIGNACION UNIVERSAL POR EMBARAZ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Cobertura no contributiva para toda embarazada </a:t>
            </a:r>
            <a:r>
              <a:rPr b="1" lang="es-ES" sz="3200" spc="-1" strike="noStrike">
                <a:solidFill>
                  <a:srgbClr val="ffffff"/>
                </a:solidFill>
                <a:latin typeface="Garamond"/>
              </a:rPr>
              <a:t> que pertenezcan a grupos familiares que se encuentren desocupados o se desempeñen en la economía informal</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TO. 446/11</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ASIGNACION UNIVERSAL POR EMBARAZO:</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Se pagará desde la decima segunda semana,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El monto de la cobertura mensual sera equivalente  mayor valor que se abona por hijo. El 80% se percibirá mensual y el resto del 20% se percibirá cuando se produzca el nacimiento, en un pago unico.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La percepción de esta asignación no será incompatible con la Asignación Universal por Hijo para Protección Social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e5e5ff"/>
                </a:solidFill>
                <a:latin typeface="Garamond"/>
              </a:rPr>
              <a:t>Proyecto Ley </a:t>
            </a:r>
            <a:br>
              <a:rPr sz="5400"/>
            </a:br>
            <a:r>
              <a:rPr b="1" lang="es-AR" sz="5400" spc="-1" strike="noStrike">
                <a:solidFill>
                  <a:srgbClr val="e5e5ff"/>
                </a:solidFill>
                <a:latin typeface="Garamond"/>
              </a:rPr>
              <a:t>sumas no remunerativas</a:t>
            </a:r>
            <a:endParaRPr b="1" lang="en-US" sz="5400" spc="-1" strike="noStrike">
              <a:solidFill>
                <a:srgbClr val="e5e5ff"/>
              </a:solidFill>
              <a:latin typeface="Garamond"/>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PROBADO POR EL SENA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L. SUMAS NO REMUNER</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A partir del 01/01/12 toda suma que establezca pagar un Convenio Colectivo </a:t>
            </a:r>
            <a:r>
              <a:rPr b="1" lang="es-AR" sz="3200" spc="-1" strike="noStrike" u="sng">
                <a:solidFill>
                  <a:srgbClr val="ffffff"/>
                </a:solidFill>
                <a:uFillTx/>
                <a:latin typeface="Garamond"/>
              </a:rPr>
              <a:t>revestirá el carácter de remuneración.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os Convenios Colectivos firmados en 2011 solo podrán establecer sumas no remunerativas por 6 meses, al 7° mes son remunerativa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L. SUMAS NO REMUNER</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os Convenios Colectivos firmados en 2011 solo podrán establecer sumas no remunerativas  por montos inferiores al 50% del incremento salarial acordad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L. SUMAS NO REMUNER</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as sumas no remunerativas originadas en Conv Colectivos anteriores a esta Ley  se convertirán en forma escalonada en REMUNERACIONES a razon de un 20% por trimestre, contados a partir de los 90 dias de publicada esta Ley.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P.L. SUMAS NO REMUNER</a:t>
            </a:r>
            <a:endParaRPr b="1" lang="en-US" sz="4400" spc="-1" strike="noStrike">
              <a:solidFill>
                <a:srgbClr val="e5e5ff"/>
              </a:solidFill>
              <a:latin typeface="Garamond"/>
            </a:endParaRPr>
          </a:p>
        </p:txBody>
      </p:sp>
      <p:sp>
        <p:nvSpPr>
          <p:cNvPr id="141" name="PlaceHolder 2"/>
          <p:cNvSpPr>
            <a:spLocks noGrp="1"/>
          </p:cNvSpPr>
          <p:nvPr>
            <p:ph/>
          </p:nvPr>
        </p:nvSpPr>
        <p:spPr>
          <a:xfrm>
            <a:off x="468360" y="1484280"/>
            <a:ext cx="8229600" cy="4957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TODAS LAS SUMAS QUE SE CONVIERTAN EN REMUNERACIÓN SE VERAN INCREMENTADAS POR EL GROSSING UP DE LAS RETENCIONES DE SEG. SOCIAL Y SINDICALES QUE DEBEN SOPORTAR LOS TRABAJADORES.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u="sng">
                <a:solidFill>
                  <a:srgbClr val="ffffff"/>
                </a:solidFill>
                <a:uFillTx/>
                <a:latin typeface="Garamond"/>
              </a:rPr>
              <a:t>NUNCA ESTE CONVERSIÓN PUEDE IMPLICAR UNA DISMINUCIÓN DE LAS SUMAS A PERCIBIR.</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e5e5ff"/>
                </a:solidFill>
                <a:latin typeface="Garamond"/>
              </a:rPr>
              <a:t>Proyecto de Ley </a:t>
            </a:r>
            <a:br>
              <a:rPr sz="5400"/>
            </a:br>
            <a:r>
              <a:rPr b="1" lang="es-AR" sz="5400" spc="-1" strike="noStrike">
                <a:solidFill>
                  <a:srgbClr val="e5e5ff"/>
                </a:solidFill>
                <a:latin typeface="Garamond"/>
              </a:rPr>
              <a:t>personal casas particulares</a:t>
            </a:r>
            <a:endParaRPr b="1" lang="en-US" sz="5400" spc="-1" strike="noStrike">
              <a:solidFill>
                <a:srgbClr val="e5e5ff"/>
              </a:solidFill>
              <a:latin typeface="Garamond"/>
            </a:endParaRPr>
          </a:p>
        </p:txBody>
      </p:sp>
      <p:sp>
        <p:nvSpPr>
          <p:cNvPr id="143" name="PlaceHolder 2"/>
          <p:cNvSpPr>
            <a:spLocks noGrp="1"/>
          </p:cNvSpPr>
          <p:nvPr>
            <p:ph type="subTitle"/>
          </p:nvPr>
        </p:nvSpPr>
        <p:spPr>
          <a:xfrm>
            <a:off x="1371600" y="4508280"/>
            <a:ext cx="6400800" cy="113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PROBADO POR DIPUTADO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esolución 299/11</a:t>
            </a:r>
            <a:br>
              <a:rPr sz="6000"/>
            </a:br>
            <a:r>
              <a:rPr b="1" lang="es-AR" sz="6000" spc="-1" strike="noStrike">
                <a:solidFill>
                  <a:srgbClr val="e5e5ff"/>
                </a:solidFill>
                <a:latin typeface="Garamond"/>
              </a:rPr>
              <a:t>SRT </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SE ENCONTRARAN COMPRENDIDOS LOS EMPLEADOS Y EMPLEADAS QUE PRESTEN SERVICIOS EN CASAS PARTICULARES –AMBITO FAMILIAR- Y QUE NO IMPORTE UN LUCRO PARA EL </a:t>
            </a:r>
            <a:r>
              <a:rPr b="1" lang="es-AR" sz="3200" spc="-1" strike="noStrike" u="sng">
                <a:solidFill>
                  <a:srgbClr val="ffffff"/>
                </a:solidFill>
                <a:uFillTx/>
                <a:latin typeface="Garamond"/>
              </a:rPr>
              <a:t>EMPLEADO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COMPRENDIDOS:</a:t>
            </a:r>
            <a:endParaRPr b="0" lang="en-US" sz="3200" spc="-1" strike="noStrike">
              <a:solidFill>
                <a:srgbClr val="ffffff"/>
              </a:solidFill>
              <a:latin typeface="Garamond"/>
            </a:endParaRPr>
          </a:p>
          <a:p>
            <a:pPr marL="566640" indent="-566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Trabajadores sin retiro</a:t>
            </a:r>
            <a:endParaRPr b="0" lang="en-US" sz="3200" spc="-1" strike="noStrike">
              <a:solidFill>
                <a:srgbClr val="ffffff"/>
              </a:solidFill>
              <a:latin typeface="Garamond"/>
            </a:endParaRPr>
          </a:p>
          <a:p>
            <a:pPr marL="566640" indent="-566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Trabajadores con retiro que trabajen para un  único empleador</a:t>
            </a:r>
            <a:endParaRPr b="0" lang="en-US" sz="3200" spc="-1" strike="noStrike">
              <a:solidFill>
                <a:srgbClr val="ffffff"/>
              </a:solidFill>
              <a:latin typeface="Garamond"/>
            </a:endParaRPr>
          </a:p>
          <a:p>
            <a:pPr marL="566640" indent="-566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Trabajadores con retiro que trabajen para varios empleadores</a:t>
            </a:r>
            <a:endParaRPr b="0" lang="en-US" sz="3200" spc="-1" strike="noStrike">
              <a:solidFill>
                <a:srgbClr val="ffffff"/>
              </a:solidFill>
              <a:latin typeface="Garamond"/>
            </a:endParaRPr>
          </a:p>
          <a:p>
            <a:pPr marL="566640" indent="-566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Trabajadores que desarrollan asistencia personal y acompañamiento y cuidado no terapéutico.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AS CATEGORIAS PROFESIONALES, PUESTOS DE TRABAJOS QUEDAN SUJETOS A LO QUE DISPONGA LA REGLAMENTACIÓN.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DERECHOS: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La jornada de trabajo no podrá exceder de 8  horas diarias y 48 semanales. NUNCA SE PODRA EXCEDER LAS 9 HS DIARIA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scanso semanal de 35 hs, a partir de las 13 hs. del sabado.</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DERECHOS: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Entrega de ropa y elementos de trabajo.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Alimentación sana, suficiente y que asegure la perfecta nutrición. Dicha alimentación: comprenderá desayuno, almuerzo, merienda y cena, acorde con la modalidad de contratación y duración de la jornada.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OBLIGACIÓN DEL EMPLEADOR DE RIESGO EL TRABAJO, CONFORME LO DISPONGA LA LEGISLACIÓN EN LA MATERIA.</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VACACIONES </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14 DÍAS  corridos  con antigüedad mayor a 6 meses y menor a 5 día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21 Días corridos con antigüedad mayor a 5 años y menor a 10 año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28 Días corridos con antigüedad mayor a 10 años y menor a 20 años. </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35 Días corridos con antigüedad mayor a 20 año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VACACIONES </a:t>
            </a: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El empleador notificara la vacaciones con 20 días de anticipación, que serán entre 1 de noviembre y el 31 de marzo.</a:t>
            </a: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Las vacaciones se abonaran por anticipado al comienzo de las mismas. </a:t>
            </a:r>
            <a:endParaRPr b="0" lang="en-US" sz="2800" spc="-1" strike="noStrike">
              <a:solidFill>
                <a:srgbClr val="ffffff"/>
              </a:solidFill>
              <a:latin typeface="Garamond"/>
            </a:endParaRPr>
          </a:p>
          <a:p>
            <a:pPr marL="597240" indent="-597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ara el personal sin retiro, durante las vacaciones percibirán en dinero un 30% del salario diario en concepto de prestaciones por habitación y manutención.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LICENCIA POR ENF.O ACC. INCULPABLE</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3 MESES AL AÑO, CUANDO LA ANTIGÜEDAD FUESE MENOR A 5 AÑOS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6 MESES AL AÑO, CUANDO LA ANTIGÜEDAD FUESE MAYOR A 5 AÑOS</a:t>
            </a:r>
            <a:endParaRPr b="0" lang="en-US" sz="2800" spc="-1" strike="noStrike">
              <a:solidFill>
                <a:srgbClr val="ffffff"/>
              </a:solidFill>
              <a:latin typeface="Garamond"/>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EN EMPLEADO DEBERA NOTIFICAR LA ENFERMEDAD O ACCIDENTE. </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DURANTE ESTE LAPSO SE DEVENGARAN LAS REMUNERACIONES QUE PERCIBÍA EL TRABAJADOR.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TODOS LOS TRABAJADORES DEBERAN TENER LIBRETA SANITARIA.</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SE LE ENCONMIENDA AL PODER EJECUTIVO, QUE EN 90 DIAS IMPLEMENTEN UN REGISTRO SIMPLIFICADO DE TRABAJADOR DOMESTICO.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aramond"/>
              </a:rPr>
              <a:t>     </a:t>
            </a:r>
            <a:r>
              <a:rPr b="1" lang="es-AR" sz="2800" spc="-1" strike="noStrike">
                <a:solidFill>
                  <a:srgbClr val="ffffff"/>
                </a:solidFill>
                <a:latin typeface="Garamond"/>
              </a:rPr>
              <a:t>RECIBOS:</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NOMBRE Y APELLIDO DEL EMPLEADOR, CUIT/CUIL Y SU DOMICILIO</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NOMBRE Y APELLIDO DEL TRABAJAOR Y SU CALIFICACIÓN PROFESIONAL</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TIPO DE REMUNERACION QUE PERCIBA, CON INDICACIÓN SUSTANCIAL DE SU DETERMINACIÓ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SOLUCION 299/11</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1" lang="es-AR" sz="3200" spc="-1" strike="noStrike">
                <a:solidFill>
                  <a:srgbClr val="ffffff"/>
                </a:solidFill>
                <a:latin typeface="Garamond"/>
              </a:rPr>
              <a:t>A PARTIR DEL 1 DE SEPTIEMBRE DE 2011, LOS EMPLEADORES DEBERAN DEJAR CONSTANCIA DE LA ENTREGA DE ROPA Y MATERIALES DE TRABAJO A SUS TRABAJADOR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ARA LO CUAL DEBERAN UTILIZAR EL FORMULARIO CREADO POR ESTA NORM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65"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4800" spc="-1" strike="noStrike">
                <a:solidFill>
                  <a:srgbClr val="ffffff"/>
                </a:solidFill>
                <a:latin typeface="Garamond"/>
              </a:rPr>
              <a:t>RECIBOS:</a:t>
            </a:r>
            <a:endParaRPr b="0" lang="en-US" sz="48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TOTAL BRUTO DE LA REMUNACIÓN (EN LOS TRABAJOS POR HORA, EL NUMERO DE JORNADAS U HORAS Y EL LAPSO AL QUE CORRESPONE)</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DETALLE E IMPORTE DE LAS RETENCIONES QUE LEGALMENTE CORRESPONDA,</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IMPORTE NETO PERCIBO, EN NÚMERO Y LETRA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Garamond"/>
              </a:rPr>
              <a:t>CONSTANCIA DE LA RECEPCIÓN DEL DUPLICADO POR EL TRABAJADOR.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5400" spc="-1" strike="noStrike">
                <a:solidFill>
                  <a:srgbClr val="ffffff"/>
                </a:solidFill>
                <a:latin typeface="Garamond"/>
              </a:rPr>
              <a:t>RECIBOS:</a:t>
            </a:r>
            <a:endParaRPr b="0" lang="en-US" sz="54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FECHA DE INGRESO Y TAREA CUMPLIDA O CATEGORÍA EN QUE EFECTIVAMENTE SE DESEMPEÑO </a:t>
            </a: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LUGAR Y FECHA QUE DEBERÁN CORRESPONDER AL PAGO REAL Y EFECTIVO DE LA REMUNERACIÓN.</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HORAS EXTRAS:</a:t>
            </a:r>
            <a:endParaRPr b="0" lang="en-US" sz="32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LAS HORAS EXTRAS SE DETERMINARAN CON UN 50% DE RECARGO SOBRE EL SALARIO HABITUAL DE TRATARSE DE DIAS COMUNUES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LAS HORAS EXTRAS SE DETERMINARAN CON UN 100% DE RECARGO SOBRE EL SALARIO HABITUAL DE TRATARSE DE SABADOS LUEGO DE LAS 13, DOMINGOS Y FERIADOS.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ICENCIAS ESPECIALES : </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n caso de trabajador varón, 2 días corridos por nacimiento de hijo.</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10 días corridos por matrimonio</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3 días corridos por fallecimiento de conyuge, conviviente, hijos o padres.</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1 día por fallecimiento de hermano</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10 días de licencia por examen. </a:t>
            </a:r>
            <a:endParaRPr b="0" lang="en-US" sz="3200" spc="-1" strike="noStrike">
              <a:solidFill>
                <a:srgbClr val="ffffff"/>
              </a:solidFill>
              <a:latin typeface="Garamond"/>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ICENCIAS por EMBARAZO  :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BLECE AL IGUAL QUE LA LCT LA LICENCIA 45 DÍAS ANTES Y DESPUES EL PART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GARANTIZA EL DERECHO DE LA PERCEPCIÓN DE LA ASIGNACION FAMILIAR, SEGÚN LO ESTABLEZCA LA REGLAMENTACIÓN.  </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ICENCIAS por EMBARAZO  :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BLECE AL IGUAL QUE LA LCT PRESUNCION DE DESPIDO E INDEMNIZACION DE 1 AÑO DE REMUNERACION.  IDEM MATRIMONI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NO EXISTE EL PLAZO DE EXCEDENCI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7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REAVISO  :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l trabajador 10 días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l empleador 10 días si la antigüedad fuere menor a 1 año</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l empleador de 30 días si la antigüedad fuere mayor a 1 año.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CAUSALES DE EXTINCION: </a:t>
            </a:r>
            <a:endParaRPr b="0" lang="en-US" sz="3200" spc="-1" strike="noStrike">
              <a:solidFill>
                <a:srgbClr val="ffffff"/>
              </a:solidFill>
              <a:latin typeface="Garamond"/>
            </a:endParaRPr>
          </a:p>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Mutuo acuerdo, solo firmado ante autoridad administrativa o judicial.  </a:t>
            </a:r>
            <a:endParaRPr b="0" lang="en-US" sz="3200" spc="-1" strike="noStrike">
              <a:solidFill>
                <a:srgbClr val="ffffff"/>
              </a:solidFill>
              <a:latin typeface="Garamond"/>
            </a:endParaRPr>
          </a:p>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renuncia del trabajador </a:t>
            </a:r>
            <a:endParaRPr b="0" lang="en-US" sz="3200" spc="-1" strike="noStrike">
              <a:solidFill>
                <a:srgbClr val="ffffff"/>
              </a:solidFill>
              <a:latin typeface="Garamond"/>
            </a:endParaRPr>
          </a:p>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muerte del trabajador, derecho de su familiares a percibir el 50% de la indemnización por despido.</a:t>
            </a:r>
            <a:endParaRPr b="0" lang="en-US" sz="3200" spc="-1" strike="noStrike">
              <a:solidFill>
                <a:srgbClr val="ffffff"/>
              </a:solidFill>
              <a:latin typeface="Garamond"/>
            </a:endParaRPr>
          </a:p>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jubilación, se aplicará las disposiciones de la  LC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95000"/>
          </a:bodyPr>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CAUSALES DE EXTINCION: </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muerte del empleador, derecho a  percibir el 50% de la indemnización por despido. Excepto cuando se continue por 30 días los servicios para los familiares del ex – empleador. </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despido sin justa causa. </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denuncia por causa, ya sea del empleador o empleado</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CAUSALES DE EXTINCION: </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Abandono de trabajo, falta 2 días hábiles</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Por incapacidad permanente (art. 212 LC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SOLUCION 299/11</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1" lang="es-ES_tradnl" sz="2800" spc="-1" strike="noStrike">
                <a:solidFill>
                  <a:srgbClr val="ffffff"/>
                </a:solidFill>
                <a:latin typeface="Garamond"/>
              </a:rPr>
              <a:t>los elementos de protección personal suministrados por los  empleadores a los trabajadores deberán contar, en los casos que la posea, con la certificación  emitida por aquellos Organismos que hayan sido reconocidos para la emisión de certificaciones de producto, por marca de conformidad o lote, según la resolución de la entonces SECRETARIA DE  INDUSTRIA, COMERCIO Y MINERIA (S.I.C. y M.) N° 896 de fecha 6 de diciembre de 1999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INDEMNIZACION POR ANTIGÜEDA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UN MES DE SUELDO POR CADA AÑO DE ANTIGÜEDAD O FRACCION MAYOR A TRES MESES.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SE DEBERA TOMAR LA MEJOR REMUNERACION MENSUAL, NORMAL Y HABITUAL.</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ESTA INDEMNIZACIÓN SE DUPLICARÁ CUANDO SE TRATE DE UNA RELACIÓN NO REGISTRADA O DEFICIENTEMENTE REGISTRAD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PERSONAL CASAS PARTICULARES</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LOS TRABAJADORES DE ESTE REGIMEN QUEDAN INCORPORADOS A LOS BENEFICIOS DE LAS LEYES 24.241, 23.660 Y 24.557.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EL PODER EJECUTIVO FIJARA LAS ALICUOTAS DE APORTES Y CONTRIBUCIONES QUE DEBERAN REALIZAR ESTOS TRABAJADORES Y EMPLEADORES.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G. 3073/2011</a:t>
            </a:r>
            <a:endParaRPr b="1" lang="en-US" sz="60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5/04/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73/2011</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POR ESTA NORMA SE VUELVE A INCREMENTAR LOS MONTOS DE LAS DEDUCCIONES PERSONALES EN GANANCIA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ES" sz="2800" spc="-1" strike="noStrike">
                <a:solidFill>
                  <a:srgbClr val="ffffff"/>
                </a:solidFill>
                <a:latin typeface="Garamond"/>
              </a:rPr>
              <a:t>    </a:t>
            </a:r>
            <a:r>
              <a:rPr b="1" lang="es-ES" sz="2800" spc="-1" strike="noStrike">
                <a:solidFill>
                  <a:srgbClr val="ffffff"/>
                </a:solidFill>
                <a:latin typeface="Garamond"/>
              </a:rPr>
              <a:t>El art 2° dispone que en el supuesto de generarse diferencias a favor del trabajador por la aplicación de estos nuevos montos de deducciones, dichos montos se computarán contra las retenciones a practicarse en los meses futuros.</a:t>
            </a:r>
            <a:r>
              <a:rPr b="0" lang="es-E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73/2011</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ES" sz="3200" spc="-1" strike="noStrike">
                <a:solidFill>
                  <a:srgbClr val="ffffff"/>
                </a:solidFill>
                <a:latin typeface="Garamond"/>
              </a:rPr>
              <a:t>En el caso, que el finalizar el periodo fiscal existiese un saldo a favor del trabajador se aplicará las disposiciones del art. 14 de la R.G. N° 2437 y sus modificaciones, en otras palabras sólo se lo reintegrará al trabajador  el saldo a su favor que arroje la declaración anual del periodo fiscal 2011, hecho que sucederá en marzo de 2012 siempre que antes el Congreso de la Nación apruebe estas modificacion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73/2011</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16" name=""/>
          <p:cNvGraphicFramePr/>
          <p:nvPr/>
        </p:nvGraphicFramePr>
        <p:xfrm>
          <a:off x="900000" y="1600200"/>
          <a:ext cx="7786800" cy="4459320"/>
        </p:xfrm>
        <a:graphic>
          <a:graphicData uri="http://schemas.openxmlformats.org/drawingml/2006/table">
            <a:tbl>
              <a:tblPr/>
              <a:tblGrid>
                <a:gridCol w="4518000"/>
                <a:gridCol w="1089000"/>
                <a:gridCol w="1090800"/>
                <a:gridCol w="1089000"/>
              </a:tblGrid>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ea typeface="Times New Roman"/>
                        </a:rPr>
                        <a:t>CONCEPTO</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ea typeface="Times New Roman"/>
                        </a:rPr>
                        <a:t>IMPORTE ACUMULADO ABRIL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ea typeface="Times New Roman"/>
                        </a:rPr>
                        <a:t>IMPORTE ACUMULADO MAYO $</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imes New Roman"/>
                          <a:ea typeface="Times New Roman"/>
                        </a:rPr>
                        <a:t>IMPORTE ACUMULADO JUNIO $</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 Ganancias no imponibles [(Art. 23, inc. 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32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4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480.-</a:t>
                      </a:r>
                      <a:endParaRPr b="0" lang="en-US" sz="1400" spc="-1" strike="noStrike">
                        <a:solidFill>
                          <a:srgbClr val="ffffff"/>
                        </a:solidFill>
                        <a:latin typeface="Arial"/>
                      </a:endParaRPr>
                    </a:p>
                  </a:txBody>
                  <a:tcPr anchor="b" marL="90000" marR="90000">
                    <a:lnL>
                      <a:noFill/>
                    </a:lnL>
                    <a:lnR>
                      <a:noFill/>
                    </a:lnR>
                    <a:lnT>
                      <a:noFill/>
                    </a:lnT>
                    <a:lnB>
                      <a:noFill/>
                    </a:lnB>
                    <a:no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B) Deducción por carga de familia [(Art. 23, inc. b)]</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 Cónyuge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8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0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200.-</a:t>
                      </a:r>
                      <a:endParaRPr b="0" lang="en-US" sz="1400" spc="-1" strike="noStrike">
                        <a:solidFill>
                          <a:srgbClr val="ffffff"/>
                        </a:solidFill>
                        <a:latin typeface="Arial"/>
                      </a:endParaRPr>
                    </a:p>
                  </a:txBody>
                  <a:tcPr anchor="b" marL="90000" marR="90000">
                    <a:lnL>
                      <a:noFill/>
                    </a:lnL>
                    <a:lnR>
                      <a:noFill/>
                    </a:lnR>
                    <a:lnT>
                      <a:noFill/>
                    </a:lnT>
                    <a:lnB>
                      <a:noFill/>
                    </a:lnB>
                    <a:noFill/>
                  </a:tcPr>
                </a:tc>
              </a:tr>
              <a:tr h="3531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 Hijo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4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0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600.-</a:t>
                      </a:r>
                      <a:endParaRPr b="0" lang="en-US" sz="1400" spc="-1" strike="noStrike">
                        <a:solidFill>
                          <a:srgbClr val="ffffff"/>
                        </a:solidFill>
                        <a:latin typeface="Arial"/>
                      </a:endParaRPr>
                    </a:p>
                  </a:txBody>
                  <a:tcPr anchor="b" marL="90000" marR="90000">
                    <a:lnL>
                      <a:noFill/>
                    </a:lnL>
                    <a:lnR>
                      <a:noFill/>
                    </a:lnR>
                    <a:lnT>
                      <a:noFill/>
                    </a:lnT>
                    <a:lnB>
                      <a:noFill/>
                    </a:lnB>
                    <a:noFill/>
                  </a:tcPr>
                </a:tc>
              </a:tr>
              <a:tr h="3513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 Otras Cargas </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25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700.-</a:t>
                      </a:r>
                      <a:endParaRPr b="0" lang="en-US" sz="1400" spc="-1" strike="noStrike">
                        <a:solidFill>
                          <a:srgbClr val="ffffff"/>
                        </a:solidFill>
                        <a:latin typeface="Arial"/>
                      </a:endParaRPr>
                    </a:p>
                  </a:txBody>
                  <a:tcPr anchor="b" marL="90000" marR="90000">
                    <a:lnL>
                      <a:noFill/>
                    </a:lnL>
                    <a:lnR>
                      <a:noFill/>
                    </a:lnR>
                    <a:lnT>
                      <a:noFill/>
                    </a:lnT>
                    <a:lnB>
                      <a:noFill/>
                    </a:lnB>
                    <a:noFill/>
                  </a:tcPr>
                </a:tc>
              </a:tr>
              <a:tr h="5734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 Deducción especial</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rt. 23, inc. c); Art. 79, inc. 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32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40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480.-</a:t>
                      </a:r>
                      <a:endParaRPr b="0" lang="en-US" sz="1400" spc="-1" strike="noStrike">
                        <a:solidFill>
                          <a:srgbClr val="ffffff"/>
                        </a:solidFill>
                        <a:latin typeface="Arial"/>
                      </a:endParaRPr>
                    </a:p>
                  </a:txBody>
                  <a:tcPr anchor="b" marL="90000" marR="90000">
                    <a:lnL>
                      <a:noFill/>
                    </a:lnL>
                    <a:lnR>
                      <a:noFill/>
                    </a:lnR>
                    <a:lnT>
                      <a:noFill/>
                    </a:lnT>
                    <a:lnB>
                      <a:noFill/>
                    </a:lnB>
                    <a:noFill/>
                  </a:tcPr>
                </a:tc>
              </a:tr>
              <a:tr h="570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D) Deducción especial</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rt. 23, inc. c); Art. 79, incisos a), b) y c)].</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736.-</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920.-</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1.104.-</a:t>
                      </a:r>
                      <a:endParaRPr b="0" lang="en-US" sz="14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73/2011</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19" name=""/>
          <p:cNvGraphicFramePr/>
          <p:nvPr/>
        </p:nvGraphicFramePr>
        <p:xfrm>
          <a:off x="4648320" y="1600200"/>
          <a:ext cx="4038480" cy="2865600"/>
        </p:xfrm>
        <a:graphic>
          <a:graphicData uri="http://schemas.openxmlformats.org/drawingml/2006/table">
            <a:tbl>
              <a:tblPr/>
              <a:tblGrid>
                <a:gridCol w="2342880"/>
                <a:gridCol w="565200"/>
                <a:gridCol w="565200"/>
                <a:gridCol w="56520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582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5784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graphicFrame>
        <p:nvGraphicFramePr>
          <p:cNvPr id="120" name=""/>
          <p:cNvGraphicFramePr/>
          <p:nvPr/>
        </p:nvGraphicFramePr>
        <p:xfrm>
          <a:off x="971640" y="1557360"/>
          <a:ext cx="7715160" cy="4633920"/>
        </p:xfrm>
        <a:graphic>
          <a:graphicData uri="http://schemas.openxmlformats.org/drawingml/2006/table">
            <a:tbl>
              <a:tblPr/>
              <a:tblGrid>
                <a:gridCol w="4470480"/>
                <a:gridCol w="1082520"/>
                <a:gridCol w="1079640"/>
                <a:gridCol w="1082520"/>
              </a:tblGrid>
              <a:tr h="2333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CONCEPTO</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IMPORTE ACUMULADO JULIO $</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Times New Roman"/>
                          <a:ea typeface="Times New Roman"/>
                        </a:rPr>
                        <a:t>IMPORTE ACUMULADO AGOSTO$</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Times New Roman"/>
                        </a:rPr>
                        <a:t>IMPORTE ACUMULADO SEPTIEMBRE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 Ganancias no imponibles [(Art. 23, inc. a)].</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5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6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72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 </a:t>
                      </a:r>
                      <a:r>
                        <a:rPr b="1" lang="es-ES_tradnl" sz="1200" spc="-1" strike="noStrike">
                          <a:solidFill>
                            <a:srgbClr val="ffffff"/>
                          </a:solidFill>
                          <a:latin typeface="Times New Roman"/>
                          <a:ea typeface="Times New Roman"/>
                        </a:rPr>
                        <a:t>B) Deducción por carga de familia [(Art. 23, inc. b)]</a:t>
                      </a:r>
                      <a:endParaRPr b="0" lang="en-US" sz="1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 Cónyug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4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6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8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 Hij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8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4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 Otras Cargas</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1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6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50.-</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 </a:t>
                      </a:r>
                      <a:r>
                        <a:rPr b="1" lang="es-ES_tradnl" sz="1200" spc="-1" strike="noStrike">
                          <a:solidFill>
                            <a:srgbClr val="ffffff"/>
                          </a:solidFill>
                          <a:latin typeface="Times New Roman"/>
                          <a:ea typeface="Times New Roman"/>
                        </a:rPr>
                        <a:t>C) Deducción especial</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Art. 23, inc. c); Art. 79, inc. 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5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6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720.-</a:t>
                      </a:r>
                      <a:endParaRPr b="0" lang="en-US" sz="1200" spc="-1" strike="noStrike">
                        <a:solidFill>
                          <a:srgbClr val="ffffff"/>
                        </a:solidFill>
                        <a:latin typeface="Arial"/>
                      </a:endParaRPr>
                    </a:p>
                  </a:txBody>
                  <a:tcPr anchor="b" marL="90000" marR="90000">
                    <a:lnL>
                      <a:noFill/>
                    </a:lnL>
                    <a:lnR>
                      <a:noFill/>
                    </a:lnR>
                    <a:lnT>
                      <a:noFill/>
                    </a:lnT>
                    <a:lnB>
                      <a:noFill/>
                    </a:lnB>
                    <a:no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 </a:t>
                      </a:r>
                      <a:r>
                        <a:rPr b="1" lang="es-ES_tradnl" sz="1200" spc="-1" strike="noStrike">
                          <a:solidFill>
                            <a:srgbClr val="ffffff"/>
                          </a:solidFill>
                          <a:latin typeface="Times New Roman"/>
                          <a:ea typeface="Times New Roman"/>
                        </a:rPr>
                        <a:t>D) Deducción especial</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Art. 23, inc. c); Art. 79, incisos a), b) y c)].</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6.28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1.47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6.656.-</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3"/>
          </p:nvPr>
        </p:nvSpPr>
        <p:spPr/>
        <p:txBody>
          <a:bodyPr/>
          <a:p>
            <a:r>
              <a:t>Dra. Monica Ramon  - 25/04/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7:17:51Z</dcterms:created>
  <dc:creator>WinuE</dc:creator>
  <dc:description/>
  <dc:language>en-US</dc:language>
  <cp:lastModifiedBy>LeMonique</cp:lastModifiedBy>
  <dcterms:modified xsi:type="dcterms:W3CDTF">2011-04-23T19:40:31Z</dcterms:modified>
  <cp:revision>97</cp:revision>
  <dc:subject/>
  <dc:title>NOVEDADES   </dc:title>
</cp:coreProperties>
</file>